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92972"/>
        <c:axId val="45932573"/>
      </c:barChart>
      <c:catAx>
        <c:axId val="30592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2573"/>
        <c:crosses val="autoZero"/>
        <c:auto val="1"/>
        <c:lblAlgn val="ctr"/>
        <c:lblOffset val="100"/>
        <c:noMultiLvlLbl val="0"/>
      </c:catAx>
      <c:valAx>
        <c:axId val="45932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2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76B-435A-4806-BEDA-4C75B9A3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CB4-74A3-4942-8EEE-3CD5458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357-9B6B-4B87-A167-74D9B4CD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4F2-6AC4-488C-8D09-A1049A62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62C-027F-40D4-82AC-53C159A6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271-2A3E-46E3-8A8C-975786EE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49A-C50A-4A81-BA76-8263517B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FDF-8D28-42ED-8069-9EC80C5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758-9C79-411E-932C-B19FE81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6CA-DD76-443E-AFD9-C33C2D6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0B0-F509-4919-9E4B-0834D2F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A46-F162-4D72-B779-67564CE8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51BA7-5538-4B28-8461-7A2F4E9EFB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