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90022"/>
        <c:axId val="29159867"/>
      </c:barChart>
      <c:catAx>
        <c:axId val="89990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59867"/>
        <c:crosses val="autoZero"/>
        <c:auto val="1"/>
        <c:lblAlgn val="ctr"/>
        <c:lblOffset val="100"/>
        <c:noMultiLvlLbl val="0"/>
      </c:catAx>
      <c:valAx>
        <c:axId val="29159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90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85F-9851-4CDB-ACB5-3C2E695C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7F8-77B3-426F-B38F-47FCB3FD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240-04E3-4DB1-9380-85D202FD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0226-EDF4-4D2E-B0B1-36DCECCD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B5B-15B5-45C3-915B-12F95657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41B-ABCD-44AF-943B-2B2228AF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665-1478-4CA6-A025-23FF1B2F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76D-5184-4771-8D5E-F1096B70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878-BC09-4597-A341-099F8FD9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AF8-D6B6-4472-90F5-6773D8E6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36A-07BE-4950-AABB-50862B8B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9FD-9582-468D-9D81-9A1EDAA1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609A6-4AD4-432A-89CD-F2B836BA5D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